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79D-82AF-46E3-8732-0DB88552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147-8C70-4D4D-AA15-D7DCADDB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998-AE9B-46ED-A932-D37BCF09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9CB-FBA0-4012-863B-8E2D4E49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2A2-9140-4D40-9680-61689FFC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D51-6103-4EB4-B8C8-14E05ABA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F0F-65AE-4C59-B789-61543D29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408-473B-41F5-9EA4-5C35F412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564-2789-4CD9-BF06-6D0AFEFB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362-56A5-45B3-8014-469DBF57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3D9-48ED-4C1E-B343-5DCC6671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980-E9A1-4B3C-9210-06A0391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4EB0F0-AEA9-4155-85C8-EB53E4F18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Bibanking We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373880" cy="4562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otificación Elect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Ejemplo  Nota de Crèdito / Deb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6320" y="1309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5280120" cy="3038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1295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5562720" cy="29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99072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86000"/>
            <a:ext cx="685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609480"/>
            <a:ext cx="2438280" cy="2819520"/>
          </a:xfrm>
          <a:prstGeom prst="leftArrowCallout">
            <a:avLst>
              <a:gd name="adj1" fmla="val 28911"/>
              <a:gd name="adj2" fmla="val 28909"/>
              <a:gd name="adj3" fmla="val 16667"/>
              <a:gd name="adj4" fmla="val 66673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838080"/>
            <a:ext cx="144756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De Nota de Crédito o Débito puede ser el mismo  para el cliente y para el provee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aparece en el Estado de cuenta de amb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Búsqueda de Convenios a utiliz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544760"/>
            <a:ext cx="770400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785440" cy="374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706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Tipos de convenios en proveedo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4427640" cy="324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4643280" cy="324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mportación de 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424720" cy="229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8462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ngreso Man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32720" cy="282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7632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mportacion cheque Caja / Vouc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6696360" cy="30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6697800" cy="2565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mportación Créd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utorización de L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5256360" cy="120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9144000" cy="3851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70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Bibanking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rge Roberto Ortega Chacon</dc:creator>
  <dc:description/>
  <dc:language>en-US</dc:language>
  <cp:lastModifiedBy>ogarrido</cp:lastModifiedBy>
  <dcterms:modified xsi:type="dcterms:W3CDTF">2008-06-09T23:12:44Z</dcterms:modified>
  <cp:revision>4</cp:revision>
  <dc:subject/>
  <dc:title>Pago Proveedores</dc:title>
</cp:coreProperties>
</file>